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05BB8-1776-4EF7-A13F-4ABDE8BF1DB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BCBB7-B13B-46F4-8577-96712522182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6E777-7DC4-4D09-A03C-DA54B7296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E8C01-88FB-43A0-9799-CB365BFA7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8D751-8EA8-4BEF-B9C1-61FAF7C81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043BD-9E31-40E8-B30A-B44F9CD1A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C203F-31E4-4144-B409-B28E4AE8A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D6B17-55D3-41AB-AD4B-0E6DC0C93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9BEE0-CA7B-4368-994D-698057727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07721-627B-4BD7-BDE6-542323768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A6871-D90E-4AA7-9B51-2D3698D82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E25CB-4DED-406A-81CB-3E121F193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19746-7276-4EE8-93B9-22E639214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2909A-6A47-4680-91B7-DFAFB1466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AB8F2-9BA7-4450-8850-7398529486C9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7FAB0-A53B-41DD-B5EE-580C0DEC1E5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4000" y="2133720"/>
            <a:ext cx="8496000" cy="23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2673"/>
                </a:solidFill>
                <a:latin typeface="Arial"/>
              </a:rPr>
              <a:t>Совет Военно-промышленной комиссии при Правительстве Российской Федерации </a:t>
            </a:r>
            <a:br>
              <a:rPr sz="2800"/>
            </a:br>
            <a:r>
              <a:rPr b="1" lang="en-US" sz="2800" spc="-1" strike="noStrike">
                <a:solidFill>
                  <a:srgbClr val="262673"/>
                </a:solidFill>
                <a:latin typeface="Arial"/>
              </a:rPr>
              <a:t>по развитию кадрового потенциала оборонно-промышленного комплек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719280" y="4723920"/>
            <a:ext cx="770544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Заместитель председателя Военно-промышленной комисс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ри Правительстве Российской Федера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Бочкарев Олег Иванови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Моск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3 апреля 2013 го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7" descr="E:\Эмблема ВПК 2.jpg"/>
          <p:cNvPicPr/>
          <p:nvPr/>
        </p:nvPicPr>
        <p:blipFill>
          <a:blip r:embed="rId2"/>
          <a:stretch/>
        </p:blipFill>
        <p:spPr>
          <a:xfrm>
            <a:off x="3486240" y="76320"/>
            <a:ext cx="2171520" cy="21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34" descr="E:\Эмблема ВПК 2.jpg"/>
          <p:cNvPicPr/>
          <p:nvPr/>
        </p:nvPicPr>
        <p:blipFill>
          <a:blip r:embed="rId2"/>
          <a:stretch/>
        </p:blipFill>
        <p:spPr>
          <a:xfrm>
            <a:off x="0" y="0"/>
            <a:ext cx="990720" cy="9856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348000" y="549360"/>
            <a:ext cx="2514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дач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62120" y="1371600"/>
            <a:ext cx="7619760" cy="47242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КАЗ ПРЕЗИДЕНТА РОССИЙСКОЙ ФЕДЕРАЦИИ от 7 мая 2012 г. № 60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"О РЕАЛИЗАЦИИ ПЛАНОВ (ПРОГРАММ) СТРОИТЕЛЬСТВА И РАЗВИТИ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ООРУЖЕННЫХ СИЛ РОССИЙСКОЙ ФЕДЕРАЦИИ, ДРУГИХ ВОЙСК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ОИНСКИХ ФОРМИРОВАНИЙ И ОРГАНОВ И МОДЕРНИЗАЦИ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БОРОННО-ПРОМЫШЛЕННОГО КОМПЛЕКСА" (пункт 2 "д"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авительству Российской Федерации обеспечить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дготовку в 2012 году предложений по совершенствованию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истемы профессионального образования работников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рганизаций оборонно-промышленного комплекса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вышению уровня жизни этих работников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6600"/>
                </a:solidFill>
                <a:uFillTx/>
                <a:latin typeface="Arial"/>
              </a:rPr>
              <a:t>а также по строительству для них жилых помещен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8305920" y="380880"/>
            <a:ext cx="380880" cy="381240"/>
          </a:xfrm>
          <a:prstGeom prst="ellipse">
            <a:avLst/>
          </a:prstGeom>
          <a:solidFill>
            <a:srgbClr val="bbe0e3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DB6E9-6BDB-432D-9702-2724AB52C5AB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7"/>
          <p:cNvSpPr/>
          <p:nvPr/>
        </p:nvSpPr>
        <p:spPr>
          <a:xfrm>
            <a:off x="1476360" y="260280"/>
            <a:ext cx="66247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ействующая нормативная правовая ба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1" descr="E:\Эмблема ВПК 2.jpg"/>
          <p:cNvPicPr/>
          <p:nvPr/>
        </p:nvPicPr>
        <p:blipFill>
          <a:blip r:embed="rId2"/>
          <a:stretch/>
        </p:blipFill>
        <p:spPr>
          <a:xfrm>
            <a:off x="0" y="0"/>
            <a:ext cx="914400" cy="909720"/>
          </a:xfrm>
          <a:prstGeom prst="rect">
            <a:avLst/>
          </a:prstGeom>
          <a:ln w="0">
            <a:noFill/>
          </a:ln>
        </p:spPr>
      </p:pic>
      <p:sp>
        <p:nvSpPr>
          <p:cNvPr id="57" name="Text Box 9"/>
          <p:cNvSpPr/>
          <p:nvPr/>
        </p:nvSpPr>
        <p:spPr>
          <a:xfrm>
            <a:off x="395280" y="2349360"/>
            <a:ext cx="4032360" cy="852840"/>
          </a:xfrm>
          <a:prstGeom prst="rect">
            <a:avLst/>
          </a:prstGeom>
          <a:solidFill>
            <a:srgbClr val="bbe0e3">
              <a:alpha val="49000"/>
            </a:srgbClr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1400" indent="-414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Федеральные законы от 18 июля 2011 г.     № 244-ФЗ, от 30 ноября 2011 г. № 394-ФЗ (возможность бесплатной передачи ЖСК земельных участков Фонда "РЖС"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92360" y="765000"/>
            <a:ext cx="5975280" cy="574920"/>
          </a:xfrm>
          <a:prstGeom prst="rect">
            <a:avLst/>
          </a:prstGeom>
          <a:solidFill>
            <a:srgbClr val="bbe0e3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Федеральный закон от 24 июля 2008 г. № 161-ФЗ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"О содействии развитию жилищного строительства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971640" y="5948280"/>
            <a:ext cx="7056360" cy="720720"/>
          </a:xfrm>
          <a:prstGeom prst="rect">
            <a:avLst/>
          </a:prstGeom>
          <a:solidFill>
            <a:srgbClr val="bbe0e3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26000" rIns="90000" tIns="46800" bIns="46800" anchor="ctr">
            <a:noAutofit/>
          </a:bodyPr>
          <a:p>
            <a:pPr algn="ctr">
              <a:tabLst>
                <a:tab algn="l" pos="0"/>
                <a:tab algn="l" pos="80024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Рабочая группа по вопросам обеспечения жилыми помещениям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0024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работников ОПК с использованием механизмов 161-Ф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0024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приказ Фонда "РЖС" от 11 февраля 2013 г. № 1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604360" y="115920"/>
            <a:ext cx="380880" cy="380880"/>
          </a:xfrm>
          <a:prstGeom prst="ellipse">
            <a:avLst/>
          </a:prstGeom>
          <a:solidFill>
            <a:srgbClr val="bbe0e3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50920" y="1628640"/>
            <a:ext cx="4176720" cy="50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оздани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жилищно-строительных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кооператив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8000" y="1628640"/>
            <a:ext cx="4032000" cy="50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роведение "голландских аукционов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9"/>
          <p:cNvSpPr/>
          <p:nvPr/>
        </p:nvSpPr>
        <p:spPr>
          <a:xfrm>
            <a:off x="4788000" y="2276640"/>
            <a:ext cx="3816360" cy="1279080"/>
          </a:xfrm>
          <a:prstGeom prst="rect">
            <a:avLst/>
          </a:prstGeom>
          <a:solidFill>
            <a:srgbClr val="bbe0e3">
              <a:alpha val="49000"/>
            </a:srgbClr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1400" indent="-414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Федеральный закон от 10 июля 2012 г.    № 118-ФЗ (проведение аукционов с обязательствами застройщиков по продаже жилых помещений по фиксированной цене отдельным категориям граждан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9"/>
          <p:cNvSpPr/>
          <p:nvPr/>
        </p:nvSpPr>
        <p:spPr>
          <a:xfrm>
            <a:off x="395280" y="3357720"/>
            <a:ext cx="4032360" cy="639720"/>
          </a:xfrm>
          <a:prstGeom prst="rect">
            <a:avLst/>
          </a:prstGeom>
          <a:solidFill>
            <a:srgbClr val="bbe0e3">
              <a:alpha val="49000"/>
            </a:srgbClr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1400" indent="-41400"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Федеральный закон от 30 декабря 2012 г.   № 290-ФЗ  (возможность вступления в члены ЖСК работников организаций ОПК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9"/>
          <p:cNvSpPr/>
          <p:nvPr/>
        </p:nvSpPr>
        <p:spPr>
          <a:xfrm>
            <a:off x="4788000" y="3716280"/>
            <a:ext cx="3816360" cy="1492200"/>
          </a:xfrm>
          <a:prstGeom prst="rect">
            <a:avLst/>
          </a:prstGeom>
          <a:solidFill>
            <a:srgbClr val="bbe0e3">
              <a:alpha val="49000"/>
            </a:srgbClr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1400" indent="-414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остановление Правительства Российской Федерации от 25 октября 2012 г. № 1099 (включение работников  организаций ОПК  в перечень категорий граждан,имеющих право на приобретение жилья экономического класса по фиксированной цене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9"/>
          <p:cNvSpPr/>
          <p:nvPr/>
        </p:nvSpPr>
        <p:spPr>
          <a:xfrm>
            <a:off x="395280" y="4149720"/>
            <a:ext cx="4032360" cy="1065960"/>
          </a:xfrm>
          <a:prstGeom prst="rect">
            <a:avLst/>
          </a:prstGeom>
          <a:solidFill>
            <a:srgbClr val="bbe0e3">
              <a:alpha val="49000"/>
            </a:srgbClr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1400" indent="-414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Постановление Правительства Российской Федерации от 10 апреля 2013 г. № 324 (включение работников  организаций ОПК   в перечень категорий граждан, принимаемых в члены ЖСК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619280" y="5229360"/>
            <a:ext cx="5977080" cy="647640"/>
          </a:xfrm>
          <a:prstGeom prst="upArrow">
            <a:avLst>
              <a:gd name="adj1" fmla="val 78750"/>
              <a:gd name="adj2" fmla="val 77204"/>
            </a:avLst>
          </a:prstGeom>
          <a:solidFill>
            <a:srgbClr val="57c9b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Координация мероприят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Заголовок 4"/>
          <p:cNvSpPr/>
          <p:nvPr/>
        </p:nvSpPr>
        <p:spPr>
          <a:xfrm>
            <a:off x="0" y="333360"/>
            <a:ext cx="925200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Схема 4" descr=""/>
          <p:cNvPicPr/>
          <p:nvPr/>
        </p:nvPicPr>
        <p:blipFill>
          <a:blip r:embed="rId2"/>
          <a:stretch/>
        </p:blipFill>
        <p:spPr>
          <a:xfrm>
            <a:off x="304920" y="1468440"/>
            <a:ext cx="8534160" cy="5389560"/>
          </a:xfrm>
          <a:prstGeom prst="rect">
            <a:avLst/>
          </a:prstGeom>
          <a:ln w="0">
            <a:noFill/>
          </a:ln>
        </p:spPr>
      </p:pic>
      <p:sp>
        <p:nvSpPr>
          <p:cNvPr id="70" name="Прямоугольник 9"/>
          <p:cNvSpPr/>
          <p:nvPr/>
        </p:nvSpPr>
        <p:spPr>
          <a:xfrm>
            <a:off x="268200" y="1371600"/>
            <a:ext cx="86058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Формы государственной поддержки жилищно-строительных кооперативов                   при участии Фонда "РЖС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34" descr="E:\Эмблема ВПК 2.jpg"/>
          <p:cNvPicPr/>
          <p:nvPr/>
        </p:nvPicPr>
        <p:blipFill>
          <a:blip r:embed="rId3"/>
          <a:stretch/>
        </p:blipFill>
        <p:spPr>
          <a:xfrm>
            <a:off x="0" y="0"/>
            <a:ext cx="914400" cy="90972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8604360" y="115920"/>
            <a:ext cx="380880" cy="380880"/>
          </a:xfrm>
          <a:prstGeom prst="ellipse">
            <a:avLst/>
          </a:prstGeom>
          <a:solidFill>
            <a:srgbClr val="bbe0e3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EB26E-5EBE-4003-BE6B-1272EE1EA5FC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Схема 2" descr=""/>
          <p:cNvPicPr/>
          <p:nvPr/>
        </p:nvPicPr>
        <p:blipFill>
          <a:blip r:embed="rId2"/>
          <a:stretch/>
        </p:blipFill>
        <p:spPr>
          <a:xfrm>
            <a:off x="304920" y="1219320"/>
            <a:ext cx="8254800" cy="5413320"/>
          </a:xfrm>
          <a:prstGeom prst="rect">
            <a:avLst/>
          </a:prstGeom>
          <a:ln w="0">
            <a:noFill/>
          </a:ln>
        </p:spPr>
      </p:pic>
      <p:sp>
        <p:nvSpPr>
          <p:cNvPr id="74" name="Прямоугольник 5"/>
          <p:cNvSpPr/>
          <p:nvPr/>
        </p:nvSpPr>
        <p:spPr>
          <a:xfrm>
            <a:off x="250920" y="609480"/>
            <a:ext cx="864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ПРОЦЕДУРА ПЕРЕДАЧИ ЗЕМЕЛЬНОГО УЧАСТКА КООПЕРАТИВУ ИЗ ЧИСЛА РАБОТНИКОВ ОРГАНИЗАЦИЙ ОБОРОННО-ПРОМЫШЛЕННОГО КОМПЛЕКС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34" descr="E:\Эмблема ВПК 2.jpg"/>
          <p:cNvPicPr/>
          <p:nvPr/>
        </p:nvPicPr>
        <p:blipFill>
          <a:blip r:embed="rId3"/>
          <a:stretch/>
        </p:blipFill>
        <p:spPr>
          <a:xfrm>
            <a:off x="0" y="0"/>
            <a:ext cx="914400" cy="90972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8604360" y="115920"/>
            <a:ext cx="380880" cy="380880"/>
          </a:xfrm>
          <a:prstGeom prst="ellipse">
            <a:avLst/>
          </a:prstGeom>
          <a:solidFill>
            <a:srgbClr val="bbe0e3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2BF9C-4D49-4C59-ADEF-A57B4E70E999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Схема 2" descr=""/>
          <p:cNvPicPr/>
          <p:nvPr/>
        </p:nvPicPr>
        <p:blipFill>
          <a:blip r:embed="rId2"/>
          <a:stretch/>
        </p:blipFill>
        <p:spPr>
          <a:xfrm>
            <a:off x="371520" y="1036800"/>
            <a:ext cx="8254800" cy="5351400"/>
          </a:xfrm>
          <a:prstGeom prst="rect">
            <a:avLst/>
          </a:prstGeom>
          <a:ln w="0">
            <a:noFill/>
          </a:ln>
        </p:spPr>
      </p:pic>
      <p:sp>
        <p:nvSpPr>
          <p:cNvPr id="78" name="Прямоугольник 5"/>
          <p:cNvSpPr/>
          <p:nvPr/>
        </p:nvSpPr>
        <p:spPr>
          <a:xfrm>
            <a:off x="108000" y="549360"/>
            <a:ext cx="8640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ЦЕДУРА ПРИОБРЕТЕНИЯ ЖИЛЬЯ ЭКОНОМИЧЕСКОГО КЛАССА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ЯЩЕГОСЯ НА ЗЕМЕЛЬНЫХ УЧАСТКАХ ФОНДА "РЖС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34" descr="E:\Эмблема ВПК 2.jpg"/>
          <p:cNvPicPr/>
          <p:nvPr/>
        </p:nvPicPr>
        <p:blipFill>
          <a:blip r:embed="rId3"/>
          <a:stretch/>
        </p:blipFill>
        <p:spPr>
          <a:xfrm>
            <a:off x="0" y="0"/>
            <a:ext cx="914400" cy="9097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8604360" y="115920"/>
            <a:ext cx="380880" cy="380880"/>
          </a:xfrm>
          <a:prstGeom prst="ellipse">
            <a:avLst/>
          </a:prstGeom>
          <a:solidFill>
            <a:srgbClr val="bbe0e3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96989-4295-4A86-8F93-AC9C1B720E81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7"/>
          <p:cNvSpPr/>
          <p:nvPr/>
        </p:nvSpPr>
        <p:spPr>
          <a:xfrm>
            <a:off x="1476360" y="333360"/>
            <a:ext cx="66247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Преимущества механизмов обеспечения жильем с использованием 161-ФЗ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1" descr="E:\Эмблема ВПК 2.jpg"/>
          <p:cNvPicPr/>
          <p:nvPr/>
        </p:nvPicPr>
        <p:blipFill>
          <a:blip r:embed="rId2"/>
          <a:stretch/>
        </p:blipFill>
        <p:spPr>
          <a:xfrm>
            <a:off x="0" y="0"/>
            <a:ext cx="914400" cy="909720"/>
          </a:xfrm>
          <a:prstGeom prst="rect">
            <a:avLst/>
          </a:prstGeom>
          <a:ln w="0">
            <a:noFill/>
          </a:ln>
        </p:spPr>
      </p:pic>
      <p:sp>
        <p:nvSpPr>
          <p:cNvPr id="83" name="Text Box 9"/>
          <p:cNvSpPr/>
          <p:nvPr/>
        </p:nvSpPr>
        <p:spPr>
          <a:xfrm>
            <a:off x="684360" y="3500280"/>
            <a:ext cx="8064360" cy="1829880"/>
          </a:xfrm>
          <a:prstGeom prst="rect">
            <a:avLst/>
          </a:prstGeom>
          <a:solidFill>
            <a:srgbClr val="bbe0e3">
              <a:alpha val="50000"/>
            </a:srgbClr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611280" indent="-611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"Голландские аукционы"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11280" indent="-611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Экономия граждан на стоимости квадратного метра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11280" indent="-611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до 20 %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ыночной стоимост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11280" indent="-611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Экономия граждан при эксплуатации  жилья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11280" indent="-611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до 33%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за счет современных энергосберегающих технологи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11280" indent="-611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1484280"/>
            <a:ext cx="8064360" cy="1728720"/>
          </a:xfrm>
          <a:prstGeom prst="rect">
            <a:avLst/>
          </a:prstGeom>
          <a:solidFill>
            <a:srgbClr val="bbe0e3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ЖСК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Экономия граждан на стоимости квадратного метра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до 30 %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ыночной стоимост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Экономия граждан при эксплуатации  жилья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до 33%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за счет современных энергосберегающих технологи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8604360" y="115920"/>
            <a:ext cx="380880" cy="380880"/>
          </a:xfrm>
          <a:prstGeom prst="ellipse">
            <a:avLst/>
          </a:prstGeom>
          <a:solidFill>
            <a:srgbClr val="bbe0e3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5E77A-D116-41C0-8E54-6F3D9FA71A9A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7"/>
          <p:cNvSpPr/>
          <p:nvPr/>
        </p:nvSpPr>
        <p:spPr>
          <a:xfrm>
            <a:off x="1476360" y="333360"/>
            <a:ext cx="66247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Практика жилищного строительства            в организациях ОПК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11" descr="E:\Эмблема ВПК 2.jpg"/>
          <p:cNvPicPr/>
          <p:nvPr/>
        </p:nvPicPr>
        <p:blipFill>
          <a:blip r:embed="rId2"/>
          <a:stretch/>
        </p:blipFill>
        <p:spPr>
          <a:xfrm>
            <a:off x="0" y="0"/>
            <a:ext cx="914400" cy="909720"/>
          </a:xfrm>
          <a:prstGeom prst="rect">
            <a:avLst/>
          </a:prstGeom>
          <a:ln w="0">
            <a:noFill/>
          </a:ln>
        </p:spPr>
      </p:pic>
      <p:sp>
        <p:nvSpPr>
          <p:cNvPr id="88" name="Text Box 9"/>
          <p:cNvSpPr/>
          <p:nvPr/>
        </p:nvSpPr>
        <p:spPr>
          <a:xfrm>
            <a:off x="539640" y="2565360"/>
            <a:ext cx="8064720" cy="1097640"/>
          </a:xfrm>
          <a:prstGeom prst="rect">
            <a:avLst/>
          </a:prstGeom>
          <a:solidFill>
            <a:srgbClr val="bbe0e3">
              <a:alpha val="49000"/>
            </a:srgbClr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1400" indent="-414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АО "Объединенная судостроительная корпорация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400" indent="-414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оекты комплексной жилой застройки в Ленинградской области и Северодвинске. Корпоративные ипотечные программы для работников ОСК на 2013-2016 годы и на период до 2020 г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39640" y="1484280"/>
            <a:ext cx="8064720" cy="936720"/>
          </a:xfrm>
          <a:prstGeom prst="rect">
            <a:avLst/>
          </a:prstGeom>
          <a:solidFill>
            <a:srgbClr val="bbe0e3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АО "Корпорация "Тактическое ракетное вооружение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оект строительства жилья на 1500 семе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 г.Королев  Московской обл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39640" y="3860640"/>
            <a:ext cx="7993080" cy="792360"/>
          </a:xfrm>
          <a:prstGeom prst="rect">
            <a:avLst/>
          </a:prstGeom>
          <a:solidFill>
            <a:srgbClr val="bbe0e3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АО "НПК "Уралвагонзавод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троительство многоквартирного жилого дом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39640" y="4869000"/>
            <a:ext cx="7991640" cy="936360"/>
          </a:xfrm>
          <a:prstGeom prst="rect">
            <a:avLst/>
          </a:prstGeom>
          <a:solidFill>
            <a:srgbClr val="bbe0e3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26000" rIns="90000" tIns="46800" bIns="46800" anchor="ctr">
            <a:noAutofit/>
          </a:bodyPr>
          <a:p>
            <a:pPr algn="ctr">
              <a:tabLst>
                <a:tab algn="l" pos="0"/>
                <a:tab algn="l" pos="800244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Арзамасский приборостроительный зав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00244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троительство арендного жиль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00244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 государственной программе "Арендное жилье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8604360" y="115920"/>
            <a:ext cx="380880" cy="380880"/>
          </a:xfrm>
          <a:prstGeom prst="ellipse">
            <a:avLst/>
          </a:prstGeom>
          <a:solidFill>
            <a:srgbClr val="bbe0e3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EE070-5B2C-43BA-BAFC-A74A1B7DB21A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7"/>
          <p:cNvSpPr/>
          <p:nvPr/>
        </p:nvSpPr>
        <p:spPr>
          <a:xfrm>
            <a:off x="1042920" y="260280"/>
            <a:ext cx="71294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Предложения в проект протокольного решения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11" descr="E:\Эмблема ВПК 2.jpg"/>
          <p:cNvPicPr/>
          <p:nvPr/>
        </p:nvPicPr>
        <p:blipFill>
          <a:blip r:embed="rId2"/>
          <a:stretch/>
        </p:blipFill>
        <p:spPr>
          <a:xfrm>
            <a:off x="0" y="0"/>
            <a:ext cx="914400" cy="909720"/>
          </a:xfrm>
          <a:prstGeom prst="rect">
            <a:avLst/>
          </a:prstGeom>
          <a:ln w="0">
            <a:noFill/>
          </a:ln>
        </p:spPr>
      </p:pic>
      <p:sp>
        <p:nvSpPr>
          <p:cNvPr id="95" name="Text Box 9"/>
          <p:cNvSpPr/>
          <p:nvPr/>
        </p:nvSpPr>
        <p:spPr>
          <a:xfrm>
            <a:off x="395280" y="3141720"/>
            <a:ext cx="8497800" cy="1460520"/>
          </a:xfrm>
          <a:prstGeom prst="rect">
            <a:avLst/>
          </a:prstGeom>
          <a:solidFill>
            <a:srgbClr val="bbe0e3">
              <a:alpha val="49000"/>
            </a:srgbClr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55680" indent="-270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.  Минрегиону России совместно с Минэкономразвития России, Минпромторгом  России,    Роскосмосом, Госкорпорацией "Росатом", Государственной корпорацией "Ростехнологии" и органами государственной власти субъектов Российской Федерации ускорить разработку и внесение в Правительство Российской Федерации  предложений по формированию нормативной правовой базы развития рынка арендного жиль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981000"/>
            <a:ext cx="8570880" cy="720720"/>
          </a:xfrm>
          <a:prstGeom prst="rect">
            <a:avLst/>
          </a:prstGeom>
          <a:solidFill>
            <a:srgbClr val="bbe0e3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. Совету ВПК оказывать поддержку реализации пилотных проектов по строительству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жилья; рассматривать на Совете проблемные вопросы реализации пилотных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ект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95280" y="4869000"/>
            <a:ext cx="8497800" cy="1079280"/>
          </a:xfrm>
          <a:prstGeom prst="rect">
            <a:avLst/>
          </a:prstGeom>
          <a:solidFill>
            <a:srgbClr val="bbe0e3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26000" rIns="90000" tIns="46800" bIns="46800" anchor="ctr">
            <a:noAutofit/>
          </a:bodyPr>
          <a:p>
            <a:pPr marL="268200" indent="-268200">
              <a:tabLst>
                <a:tab algn="l" pos="0"/>
                <a:tab algn="l" pos="800244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4.  Минпромторгу России, Роскосмосу, Госкорпорации "Росатом" заверши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tabLst>
                <a:tab algn="l" pos="0"/>
                <a:tab algn="l" pos="800244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зработку правил формирования списков граждан, имеющих право быть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tabLst>
                <a:tab algn="l" pos="0"/>
                <a:tab algn="l" pos="800244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инятыми в члены ЖСК, из числа работников организаций ОПК, а такж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tabLst>
                <a:tab algn="l" pos="0"/>
                <a:tab algn="l" pos="800244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зработать планы мероприятий по созданию ЖС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604360" y="115920"/>
            <a:ext cx="380880" cy="380880"/>
          </a:xfrm>
          <a:prstGeom prst="ellipse">
            <a:avLst/>
          </a:prstGeom>
          <a:solidFill>
            <a:srgbClr val="bbe0e3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46D96-7879-4300-B7CA-81F8A33A189B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95280" y="1916280"/>
            <a:ext cx="8497800" cy="1008000"/>
          </a:xfrm>
          <a:prstGeom prst="rect">
            <a:avLst/>
          </a:prstGeom>
          <a:solidFill>
            <a:srgbClr val="bbe0e3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.  Спецстрою России ускорить выполнение поручения Правительства Российско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Федерации от 29 декабря 2012 г. № РД-П7-8108 о подготовке предложений п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ередаче земельного участка площадью 1,2 га в пользование ОАО "Корпораци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"ТРВ" под жилищное строительств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0T11:26:43Z</dcterms:created>
  <dc:creator>user</dc:creator>
  <dc:description/>
  <dc:language>en-US</dc:language>
  <cp:lastModifiedBy>Шуть</cp:lastModifiedBy>
  <dcterms:modified xsi:type="dcterms:W3CDTF">2013-05-20T13:20:11Z</dcterms:modified>
  <cp:revision>159</cp:revision>
  <dc:subject/>
  <dc:title>О проекте Федерального закона «О Федеральной контрактной системе в сфере закупок товаров, работ и услуг»</dc:title>
</cp:coreProperties>
</file>